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5CD7-E479-472A-8951-E6B9EFDC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5ABD0-8182-445E-A774-A9228CEE2ABD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1890A-1ADF-4BEE-9237-0446D2C7582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D23EE-72CE-410A-B166-F61D8D820807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58277-F2BF-4E29-9DD0-2233FE3B830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7E0FA-0D65-40DC-9A40-90211D975956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E0274-EB9C-4074-9544-C12A808CF85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hemistry.about.com/b/2010/11/09/osmotic-pressure-and-tonicity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su7.org/~lweb/Lakeview/science/sea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C616F-CB78-47DD-999D-D50FEF7AA292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D243C-D248-4539-9E85-206633EA5FB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hebasisoflife.wikispaces.com/Membrane+Structure+and+Funct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zumogor.mine.nu/blog/view-atp%20orar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entsimmons.uwinnipeg.ca/cm1504/membranefunction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C004535/molecule_transport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rditobook.pbworks.com/w/page/11348839/Diffus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facilitated-diffusion-active-transport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F76-133F-479F-9D92-656D0C11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823-3258-4774-909A-A3A3531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13-8C45-4771-9E48-75E2E3AF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19F-BEF7-4200-B0BB-EE267B36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D97-ED05-431C-AD50-25DAF91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630-72CF-4E97-B32B-C0D16BC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6F5-E095-4FE4-BACE-56D8F18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894-3457-41CF-9067-EA4E301F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1E2-A798-4EAB-A81B-F8A64D9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8DD-C034-4B5A-9ED7-4F67B8E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DE-4AB1-482F-A0F4-0875035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99A-B9D3-49E9-B1EE-FD68066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4FF-EDC9-4158-AB55-50BF40791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4 &amp; 1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ffusion of water molecules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form an area of low solute concentration to an area of high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s have equal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e concentration than 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e concentration than 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11C2-3725-4419-84BE-AA241E4344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219320" y="1447920"/>
            <a:ext cx="579096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523880" y="16002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14400" y="5562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ell is at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1280" y="6019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40384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62940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NE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BD8-B883-41D2-B531-8947B2A550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066680" y="5867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90C-9763-4CF5-A2C5-D015B98663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914400" y="5562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7339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and Ton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00340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23749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62B-E4EB-456E-BBB5-0B28A987DD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11280" y="2743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6760" y="27432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783120" y="26668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4960" y="5410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87640" y="5410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554880" y="54864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 &amp; 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at only certain substances can pass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7040" y="198108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move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,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called adenosine triphosphate (ATP) provides the energy for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5680" y="1981080"/>
            <a:ext cx="60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ovement of substances through a membran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, using membrane-bound carrier proteins and energy fro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require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ponsible for moving large quantities of materials across the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bring large amounts of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s solids into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s liquids into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680" y="1701720"/>
            <a:ext cx="4584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take large amounts of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52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33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#10, 11, 12, and 15 taken from Powerpoint presentations created by Cheryl Massengale, educator extraordinaire &amp; creator of http://www.biologyjunc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asses thr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uncharged substances such as water, oxygen,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lipi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eds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with positive or negative charges (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he movement of particles from an area where they are highly concentrated, to an area where they are less highly concentrated (dow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o energy, and continues until equilibrium 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ive diffusion through a membrane, assisted by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, sodium ions, and chloride ions all move across cell membranes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embrane proteins span the entire thickness of the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ct as carrier proteins (they assist substances to move thr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2-10-09T15:36:26Z</dcterms:modified>
  <cp:revision>227</cp:revision>
  <dc:subject/>
  <dc:title>PowerPoint Presentation</dc:title>
</cp:coreProperties>
</file>